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4D5B-EC60-43BF-9161-F9AC4C57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10A9-32D2-453F-A678-57DAD33D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685C-A651-497A-9751-4D89FD3F1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C60E-8BB6-443E-AAF9-4DFA1E21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D394-E472-44B6-8620-D6AD34B2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7FCF-5D9E-4972-881B-BF748CB2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F7A9-5C7B-4362-828A-0A0F7B30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1933-3838-458D-A72B-B10D3FD1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F68B-7847-46E4-AACE-3EB7AFFF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6D85-71CF-44DF-A095-CFB183F8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4DC7-F97E-4930-A602-F63F4499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00C7-4FD0-42FE-8CAC-4818B31C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7E1B-C518-438C-AD12-B69E7AC987DF}" type="slidenum">
              <a:rPr b="0" lang="ar-AE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تر المدر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4:19:49Z</dcterms:created>
  <dc:creator>Anthony</dc:creator>
  <dc:description/>
  <dc:language>en-US</dc:language>
  <cp:lastModifiedBy> Ahmad Abdel Rahman</cp:lastModifiedBy>
  <dcterms:modified xsi:type="dcterms:W3CDTF">2004-08-03T09:57:02Z</dcterms:modified>
  <cp:revision>2</cp:revision>
  <dc:subject/>
  <dc:title>School Handbook</dc:title>
</cp:coreProperties>
</file>